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A9C-586B-4C1D-AFEF-14B5E7FD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DEE-C372-4D85-8A2A-20808547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8AB-05DD-40DC-BECE-A9879576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F61-660B-4DCA-87F3-B267215B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613-0A68-4AA0-9F4D-FDD8F3D6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EB4-B2BF-4148-A540-C9642FC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955-C64A-4872-9C03-0E4412C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055-5212-4A8B-B2D9-781B94BD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EC4-0109-4EC1-9655-5C8CD75C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131-AC8A-4E40-8496-37D48F2B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56D-5165-4454-87AD-D9C96FD7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8E9-CB84-484A-8A79-5E026BA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892-8205-4ECD-9A52-2F932A30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hyperlink" Target="http://www.freeplaymusic.com/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epperson.html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914400"/>
            <a:ext cx="42670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cc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PSICLE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cc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5486400"/>
            <a:ext cx="2057400" cy="120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ce Stah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1/12 pd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1387440" cy="181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466640" cy="189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985680" cy="181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5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199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791320"/>
            <a:ext cx="487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Everyone in harmony Feb.27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80880" y="533520"/>
            <a:ext cx="13716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a2fe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586728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psic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pperson"/>
          <p:cNvPicPr/>
          <p:nvPr/>
        </p:nvPicPr>
        <p:blipFill>
          <a:blip r:embed="rId2"/>
          <a:stretch/>
        </p:blipFill>
        <p:spPr>
          <a:xfrm>
            <a:off x="914400" y="762120"/>
            <a:ext cx="7696080" cy="237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81280" y="34290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 created this frozen treat when he was 11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303200" cy="177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19920" y="5867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041560" cy="138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517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sicle was invented in 19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when Frank Epperson left a drink outside then froze over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came a very popular treat and still i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ver thirty different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sicle was first called the Ep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23 it became a official t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75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cc00c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Epperson accidently invented the popsic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just eleven when he created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the year of 189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in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to be 89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71612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292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5Z</dcterms:created>
  <dc:creator>install</dc:creator>
  <dc:description/>
  <dc:language>en-US</dc:language>
  <cp:lastModifiedBy>install</cp:lastModifiedBy>
  <dcterms:modified xsi:type="dcterms:W3CDTF">2012-03-09T15:26:53Z</dcterms:modified>
  <cp:revision>7</cp:revision>
  <dc:subject/>
  <dc:title>Slide 1</dc:title>
</cp:coreProperties>
</file>